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73152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7480" y="742680"/>
            <a:ext cx="4643640" cy="3714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BCCA9-3892-4542-9E27-C6C50077BB8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6810-3A4E-4C02-9F60-B5AD36A21B9C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077840" y="743040"/>
            <a:ext cx="4643640" cy="37148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8040" y="940752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093F-2406-4909-968D-A5D59ADF1B94}" type="slidenum"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996F-5348-44E6-A447-57D73A579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5459-D2F3-400B-8389-FE57D012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799-B459-4D2F-969A-B26EBF063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A9DB-1734-47AC-A5C6-7B4C4E66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C738-B3E2-4777-8AE9-B8DDADE8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57AD7-57B3-489E-A440-DB1133C6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DD42B-7994-4CB9-9787-9B2919D6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9A0A-DEE9-4791-9B1C-A0B4E245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79F7-468C-49AF-9BD2-BB5E958B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9353-89A7-4178-BF25-48008D4C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2A4F-3026-4B5B-A67A-6D5981DD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AD23-9E05-43A5-9993-828003CB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5DA64-7846-41D5-9667-0BEA3982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28D9-69B1-484A-A587-01A1F66F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050C-6C7C-4307-8399-7A0E4058D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0398-B72C-4CDA-BE3D-B0A0A0E4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DF6D-288A-4BA1-9E07-4865C75FD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829A-A270-4D7B-BBF3-ADF529AD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D65-D8A7-42B6-9606-83B13AD5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22C8-1F3A-4417-885E-1DA1F637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2DE0-FA40-430B-BB0D-5EC7C6CB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DCD-EBF7-4732-8C9E-FF47EA3B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671-DF93-4E5E-951F-E39B4B260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14B7-426D-4935-B329-C2E3AF90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8596-B602-46CA-B077-04F2B8993BEA}" type="datetime">
              <a:rPr b="0" lang="sl-SI" sz="1000" spc="-1" strike="noStrike">
                <a:solidFill>
                  <a:srgbClr val="034ea2"/>
                </a:solidFill>
                <a:latin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7035480"/>
            <a:ext cx="28958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7035480"/>
            <a:ext cx="21337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000" spc="-1" strike="noStrike">
                <a:solidFill>
                  <a:srgbClr val="034ea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41859-25FE-43AD-A3BA-6B8919D00C9F}" type="slidenum">
              <a:rPr b="0" lang="sl-SI" sz="1000" spc="-1" strike="noStrike">
                <a:solidFill>
                  <a:srgbClr val="034ea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4647-30D6-4D3C-AAC7-88CD2A01C8D8}" type="datetime">
              <a:rPr b="0" lang="sl-SI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9960-6A27-47BA-8411-D650BFCFC19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414F1-3A97-4D55-ACCC-B74C140F0B4F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BA23-0601-4084-9614-534160D4ED9B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1044720" y="1136520"/>
            <a:ext cx="287964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3366"/>
                </a:solidFill>
                <a:latin typeface="Century Gothic"/>
                <a:ea typeface="Arial"/>
              </a:rPr>
              <a:t>MINISTRSTVO ZA FI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Beethovnova 11, 1000 Ljublja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Tel.: (01) 369-65-10 Fax: (01) 369-65-3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808080"/>
                </a:solidFill>
                <a:latin typeface="Century Gothic"/>
                <a:ea typeface="Arial"/>
              </a:rPr>
              <a:t>SUSEU/PO - ORGAN ZA POTRJEVAN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971640" y="2881440"/>
            <a:ext cx="7270560" cy="29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179280" y="3152880"/>
            <a:ext cx="8498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3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Finančna realizacija izvajanj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OP RČV za obdobje </a:t>
            </a:r>
            <a:br>
              <a:rPr sz="4400"/>
            </a:br>
            <a:r>
              <a:rPr b="1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2007-2013</a:t>
            </a:r>
            <a:r>
              <a:rPr b="0" lang="sl-SI" sz="4400" spc="-1" strike="noStrike">
                <a:solidFill>
                  <a:srgbClr val="003366"/>
                </a:solidFill>
                <a:latin typeface="Calibri"/>
                <a:ea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0"/>
          <p:cNvSpPr/>
          <p:nvPr/>
        </p:nvSpPr>
        <p:spPr>
          <a:xfrm>
            <a:off x="39600" y="4233960"/>
            <a:ext cx="9104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53DB4-5537-4B49-9ED2-91F9B4F1E373}" type="datetime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B89D9-750C-432C-B53E-D4299D7BFD58}" type="slidenum">
              <a:rPr b="0" lang="sl-SI" sz="1000" spc="-1" strike="noStrike">
                <a:solidFill>
                  <a:srgbClr val="003366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0"/>
          <p:cNvSpPr/>
          <p:nvPr/>
        </p:nvSpPr>
        <p:spPr>
          <a:xfrm>
            <a:off x="1628640" y="1054080"/>
            <a:ext cx="63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Letni pregled avtoriziranih/certificiranih izdat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3"/>
          <p:cNvSpPr/>
          <p:nvPr/>
        </p:nvSpPr>
        <p:spPr>
          <a:xfrm>
            <a:off x="860400" y="1496880"/>
            <a:ext cx="565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</a:t>
            </a:r>
            <a:r>
              <a:rPr b="0" lang="sl-SI" sz="12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"/>
          <p:cNvPicPr/>
          <p:nvPr/>
        </p:nvPicPr>
        <p:blipFill>
          <a:blip r:embed="rId1"/>
          <a:stretch/>
        </p:blipFill>
        <p:spPr>
          <a:xfrm>
            <a:off x="971640" y="1785960"/>
            <a:ext cx="3456000" cy="2473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"/>
          <p:cNvPicPr/>
          <p:nvPr/>
        </p:nvPicPr>
        <p:blipFill>
          <a:blip r:embed="rId2"/>
          <a:stretch/>
        </p:blipFill>
        <p:spPr>
          <a:xfrm>
            <a:off x="3851280" y="4335480"/>
            <a:ext cx="458460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C90A-5A57-4988-9EE8-CFB766291397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2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578B-099E-425B-8A95-3472EBB4448E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8819-203F-4D9A-8647-6341FE264243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252C-D5C1-4C81-929F-12CA96211325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4"/>
          <p:cNvSpPr/>
          <p:nvPr/>
        </p:nvSpPr>
        <p:spPr>
          <a:xfrm>
            <a:off x="826920" y="993600"/>
            <a:ext cx="727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Calibri"/>
                <a:ea typeface="Calibri"/>
              </a:rPr>
              <a:t>PREGLED FINANČNIH TOK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9"/>
          <p:cNvSpPr/>
          <p:nvPr/>
        </p:nvSpPr>
        <p:spPr>
          <a:xfrm>
            <a:off x="5740560" y="633240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1"/>
          <p:cNvGrpSpPr/>
          <p:nvPr/>
        </p:nvGrpSpPr>
        <p:grpSpPr>
          <a:xfrm>
            <a:off x="250920" y="1641600"/>
            <a:ext cx="8353440" cy="4532040"/>
            <a:chOff x="250920" y="1641600"/>
            <a:chExt cx="8353440" cy="4532040"/>
          </a:xfrm>
        </p:grpSpPr>
        <p:pic>
          <p:nvPicPr>
            <p:cNvPr id="109" name="Picture 9" descr=""/>
            <p:cNvPicPr/>
            <p:nvPr/>
          </p:nvPicPr>
          <p:blipFill>
            <a:blip r:embed="rId1"/>
            <a:stretch/>
          </p:blipFill>
          <p:spPr>
            <a:xfrm>
              <a:off x="285480" y="1641600"/>
              <a:ext cx="8308440" cy="66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10" descr=""/>
            <p:cNvPicPr/>
            <p:nvPr/>
          </p:nvPicPr>
          <p:blipFill>
            <a:blip r:embed="rId2"/>
            <a:stretch/>
          </p:blipFill>
          <p:spPr>
            <a:xfrm>
              <a:off x="250920" y="2290680"/>
              <a:ext cx="8353440" cy="3882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284C-5BE7-4CD8-91B3-226BC612C94A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149B-2872-4DDF-90C6-8260441064E7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908000" y="2936880"/>
          <a:ext cx="5400720" cy="1441440"/>
        </p:xfrm>
        <a:graphic>
          <a:graphicData uri="http://schemas.openxmlformats.org/drawingml/2006/table">
            <a:tbl>
              <a:tblPr/>
              <a:tblGrid>
                <a:gridCol w="1224000"/>
                <a:gridCol w="2089440"/>
                <a:gridCol w="2087280"/>
              </a:tblGrid>
              <a:tr h="8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Pogoji za certificiranj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20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ZzP v obdelavi na 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63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 5. 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,00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,1 mio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40"/>
          <p:cNvSpPr/>
          <p:nvPr/>
        </p:nvSpPr>
        <p:spPr>
          <a:xfrm>
            <a:off x="1117800" y="1698480"/>
            <a:ext cx="677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3366"/>
                </a:solidFill>
                <a:latin typeface="Arial"/>
                <a:ea typeface="Arial"/>
              </a:rPr>
              <a:t>STANJE ZzP NA ORGANU ZA POTRJEV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7"/>
          <p:cNvSpPr/>
          <p:nvPr/>
        </p:nvSpPr>
        <p:spPr>
          <a:xfrm>
            <a:off x="1835280" y="2649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8"/>
          <p:cNvSpPr/>
          <p:nvPr/>
        </p:nvSpPr>
        <p:spPr>
          <a:xfrm>
            <a:off x="2425320" y="4665600"/>
            <a:ext cx="4475520" cy="5806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4,1 mio € = 123 zahtevkov za povrači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ffffff"/>
                </a:solidFill>
                <a:latin typeface="Calibri"/>
                <a:ea typeface="Calibri"/>
              </a:rPr>
              <a:t>Št. prejetih ZzP v l. 2014: 654 v vrednosti 45,1 mio €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3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67A9-2DC3-4150-8E09-6ACB613BA3C3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EA8B-5B48-4929-9888-3E05D31D64D9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1333800" y="1569960"/>
            <a:ext cx="671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Uresničevanje pravila n+2/3 za OP RČV 07-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4"/>
          <p:cNvSpPr/>
          <p:nvPr/>
        </p:nvSpPr>
        <p:spPr>
          <a:xfrm>
            <a:off x="324000" y="2433600"/>
            <a:ext cx="565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  <a:ea typeface="Arial"/>
              </a:rPr>
              <a:t>Prispevek Skupnosti (v EU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4"/>
          <p:cNvSpPr/>
          <p:nvPr/>
        </p:nvSpPr>
        <p:spPr>
          <a:xfrm>
            <a:off x="378000" y="4952880"/>
            <a:ext cx="5655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Calibri"/>
                <a:ea typeface="Arial"/>
              </a:rPr>
              <a:t>Stopnja doseganja FN 2007-2013 na dan 9. 5. 2014: 73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01760" y="2627280"/>
          <a:ext cx="8151840" cy="162000"/>
        </p:xfrm>
        <a:graphic>
          <a:graphicData uri="http://schemas.openxmlformats.org/drawingml/2006/table">
            <a:tbl>
              <a:tblPr/>
              <a:tblGrid>
                <a:gridCol w="8151840"/>
              </a:tblGrid>
              <a:tr h="162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Uredba (EU) št. 539/2010 z dne 16.6.2010 o spremembi 93. člena Uredbe (ES) št. 1083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24" name="Picture 15" descr=""/>
          <p:cNvPicPr/>
          <p:nvPr/>
        </p:nvPicPr>
        <p:blipFill>
          <a:blip r:embed="rId1"/>
          <a:stretch/>
        </p:blipFill>
        <p:spPr>
          <a:xfrm>
            <a:off x="385920" y="2827440"/>
            <a:ext cx="8073720" cy="203976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39"/>
          <p:cNvSpPr/>
          <p:nvPr/>
        </p:nvSpPr>
        <p:spPr>
          <a:xfrm>
            <a:off x="808200" y="6340320"/>
            <a:ext cx="4721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Stanje na dan:  9. 5. 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3366"/>
                </a:solidFill>
                <a:latin typeface="Calibri"/>
                <a:ea typeface="Calibri"/>
              </a:rPr>
              <a:t>Vir: IS-PA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1"/>
          <p:cNvSpPr/>
          <p:nvPr/>
        </p:nvSpPr>
        <p:spPr>
          <a:xfrm>
            <a:off x="45720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195AF-373C-4A3D-8B40-CEE15E52EDE8}" type="datetime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7035840"/>
            <a:ext cx="21337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65B2-2BA7-4D09-8B32-FF133AB800DC}" type="slidenum">
              <a:rPr b="0" lang="sl-SI" sz="1000" spc="-1" strike="noStrike">
                <a:solidFill>
                  <a:srgbClr val="034ea2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736280" y="1928880"/>
            <a:ext cx="45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34ea2"/>
                </a:solidFill>
                <a:latin typeface="Arial"/>
                <a:ea typeface="Arial"/>
              </a:rPr>
              <a:t>Zahtevek za plačilo - napov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332000" y="2936880"/>
          <a:ext cx="6095880" cy="15541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34ea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rednos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128,2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2800" spc="-1" strike="noStrike">
                          <a:solidFill>
                            <a:srgbClr val="034ea2"/>
                          </a:solidFill>
                          <a:latin typeface="Arial"/>
                        </a:rPr>
                        <a:t>78,7 mio EU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Rectangle 47"/>
          <p:cNvSpPr/>
          <p:nvPr/>
        </p:nvSpPr>
        <p:spPr>
          <a:xfrm>
            <a:off x="1328040" y="4788000"/>
            <a:ext cx="1927080" cy="307080"/>
          </a:xfrm>
          <a:prstGeom prst="rect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ffffff"/>
                </a:solidFill>
                <a:latin typeface="Arial"/>
                <a:ea typeface="Arial"/>
              </a:rPr>
              <a:t>Vir: SFC 2007 –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4"/>
          <p:cNvSpPr/>
          <p:nvPr/>
        </p:nvSpPr>
        <p:spPr>
          <a:xfrm>
            <a:off x="1258920" y="5529240"/>
            <a:ext cx="6192720" cy="276480"/>
          </a:xfrm>
          <a:prstGeom prst="rect">
            <a:avLst/>
          </a:prstGeom>
          <a:solidFill>
            <a:srgbClr val="034e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ffffff"/>
                </a:solidFill>
                <a:latin typeface="Arial Unicode MS"/>
                <a:ea typeface="Arial"/>
              </a:rPr>
              <a:t>Realizacija napovedi 2014 na dan 9. 5. 2014 = 39,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Evelyn Filip</cp:lastModifiedBy>
  <cp:lastPrinted>2012-06-04T14:32:47Z</cp:lastPrinted>
  <dcterms:modified xsi:type="dcterms:W3CDTF">2014-05-16T15:29:33Z</dcterms:modified>
  <cp:revision>166</cp:revision>
  <dc:subject/>
  <dc:title>Naslov</dc:title>
</cp:coreProperties>
</file>